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84A6-9C92-42F6-8EBB-2BEEBE08E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5F04-6C03-4D69-814D-4F882641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7E62-AEAD-4D87-BB54-82D93ED74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DB13-532B-4319-B52C-011E18CB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73B3-0AA7-4D6E-B66D-A393ED9E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F864-7AF3-4FC3-9ACD-A40E860C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A1A1-2333-493D-A1B6-C9C58556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52F9-FAE2-447B-90C1-7B02A071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A8B9-0A0D-40AA-9D39-D8FB8105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53B3-547E-47B2-8C79-225844F2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E41C-C6B1-447A-B4D4-7307C69A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F641-588F-4A43-80D9-DDEF8E1C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16BF-E457-4E64-8B67-96E31B3BA3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0" y="3124080"/>
            <a:ext cx="4495680" cy="3052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24080" y="609480"/>
            <a:ext cx="2590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olving Tension in the 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66680" y="1128600"/>
            <a:ext cx="6782040" cy="40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riters often end a story by settling the conflict or problem that happens in the story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bf1"/>
                </a:solidFill>
                <a:latin typeface="Arial"/>
              </a:rPr>
              <a:t>We call this </a:t>
            </a:r>
            <a:r>
              <a:rPr b="0" i="1" lang="en-US" sz="3600" spc="-1" strike="noStrike">
                <a:solidFill>
                  <a:srgbClr val="e3ebf1"/>
                </a:solidFill>
                <a:latin typeface="Arial"/>
              </a:rPr>
              <a:t>resolving tension</a:t>
            </a:r>
            <a:r>
              <a:rPr b="0" lang="en-US" sz="3600" spc="-1" strike="noStrike">
                <a:solidFill>
                  <a:srgbClr val="e3ebf1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19320" y="2374920"/>
            <a:ext cx="670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bf1"/>
                </a:solidFill>
                <a:latin typeface="Arial"/>
              </a:rPr>
              <a:t>Let’s look at an example of an ending that settles a conflict or problem, or </a:t>
            </a:r>
            <a:r>
              <a:rPr b="0" i="1" lang="en-US" sz="3600" spc="-1" strike="noStrike">
                <a:solidFill>
                  <a:srgbClr val="e3ebf1"/>
                </a:solidFill>
                <a:latin typeface="Arial"/>
              </a:rPr>
              <a:t>resolves tension</a:t>
            </a:r>
            <a:r>
              <a:rPr b="0" lang="en-US" sz="3600" spc="-1" strike="noStrike">
                <a:solidFill>
                  <a:srgbClr val="e3ebf1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502920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3ebf1"/>
                </a:solidFill>
                <a:latin typeface="Arial"/>
              </a:rPr>
              <a:t>Learning About Baseb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Chuck Hat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914400"/>
            <a:ext cx="66294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Helvetica Neue"/>
              </a:rPr>
              <a:t>Baseball is dangerous.  You have to watch out for swing bats and wild pitches, but today, at least, it wasn’t sending me to the hospit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762120"/>
            <a:ext cx="8001000" cy="52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bf1"/>
                </a:solidFill>
                <a:latin typeface="Arial"/>
              </a:rPr>
              <a:t>Think of the story you are telling, the personal narrative you are writing.  What is the problem in the story that was overcome or about which you learned a lesso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bf1"/>
                </a:solidFill>
                <a:latin typeface="Arial"/>
              </a:rPr>
              <a:t>Write an ending that settles the problem or conflict that you introduced in the beginning of the sto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14400" y="1565280"/>
            <a:ext cx="7315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bf1"/>
                </a:solidFill>
                <a:latin typeface="Arial"/>
              </a:rPr>
              <a:t>I will be coming around to talk with you about your ending.  I will also be asking some of you to share the problem in your personal narrative and the way that you settled it for your reade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66680" y="1295280"/>
            <a:ext cx="6553440" cy="35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bf1"/>
                </a:solidFill>
                <a:latin typeface="Arial"/>
              </a:rPr>
              <a:t>Remember to settle the problem in your story at the e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bf1"/>
                </a:solidFill>
                <a:latin typeface="Arial"/>
              </a:rPr>
              <a:t>This is called </a:t>
            </a:r>
            <a:r>
              <a:rPr b="0" i="1" lang="en-US" sz="3600" spc="-1" strike="noStrike">
                <a:solidFill>
                  <a:srgbClr val="e3ebf1"/>
                </a:solidFill>
                <a:latin typeface="Arial"/>
              </a:rPr>
              <a:t>resolving tension</a:t>
            </a:r>
            <a:r>
              <a:rPr b="0" lang="en-US" sz="3600" spc="-1" strike="noStrike">
                <a:solidFill>
                  <a:srgbClr val="e3ebf1"/>
                </a:solidFill>
                <a:latin typeface="Arial"/>
              </a:rPr>
              <a:t> for the read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6294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00:08:31Z</dcterms:created>
  <dc:creator>Chuck Hatt</dc:creator>
  <dc:description/>
  <dc:language>en-US</dc:language>
  <cp:lastModifiedBy>AAPS</cp:lastModifiedBy>
  <cp:lastPrinted>2007-11-20T21:30:06Z</cp:lastPrinted>
  <dcterms:modified xsi:type="dcterms:W3CDTF">2007-12-17T22:07:01Z</dcterms:modified>
  <cp:revision>22</cp:revision>
  <dc:subject/>
  <dc:title>PowerPoint Presentation</dc:title>
</cp:coreProperties>
</file>